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0080625" cy="7559675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0" y="0"/>
            <a:ext cx="6858000" cy="9180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80360"/>
              <a:gd name="textAreaBottom" fmla="*/ 9180000 h 9180360"/>
            </a:gdLst>
            <a:ahLst/>
            <a:rect l="textAreaLeft" t="textAreaTop" r="textAreaRight" b="textAreaBottom"/>
            <a:pathLst>
              <a:path w="21600" h="28914">
                <a:moveTo>
                  <a:pt x="4" y="0"/>
                </a:moveTo>
                <a:arcTo wR="4" hR="4" stAng="16200000" swAng="-5400000"/>
                <a:lnTo>
                  <a:pt x="0" y="28910"/>
                </a:lnTo>
                <a:arcTo wR="4" hR="4" stAng="10800000" swAng="-5400000"/>
                <a:lnTo>
                  <a:pt x="21596" y="2891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5080" y="696600"/>
            <a:ext cx="45813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172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72136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1520" y="872136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A971C-D63D-4EA0-820F-06227B5ED73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44F37-24A5-4284-8C07-1E7131A3EDE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1209600" y="696960"/>
            <a:ext cx="443880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EE216-2C6D-4772-9C85-08ADF4A0387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6B9FD-4067-44AC-B1E4-06F9EC18509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1209600" y="696960"/>
            <a:ext cx="443412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5FC6-C842-4930-B16B-AF177F75551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1A24-DE06-4B02-8437-0A6B61206CB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DD27D-0A4A-4734-855E-FE5BE29AE14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C985-2D26-468C-86E1-60EAA307957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5EAC-7547-474B-8D94-5FC52109CD4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4028B-C0F7-49AC-9C66-FC0A5AC85F5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72FF-BFBE-47A1-9AD2-82D61A5AEB7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6AFF-4C51-4DB6-BEB4-171D2F660AF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1209600" y="696960"/>
            <a:ext cx="443412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02B0D-FBA8-4963-8123-0179903A38E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"/>
          <p:cNvSpPr/>
          <p:nvPr/>
        </p:nvSpPr>
        <p:spPr>
          <a:xfrm>
            <a:off x="1209600" y="696960"/>
            <a:ext cx="443556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0076-5430-4D3A-92B8-FD57D1EAC31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75DA6-757F-4921-9D62-AF765BCBB24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ECD57-E7A5-4D7B-8002-8E74BE78780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5080" y="69696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FD1A-3586-48ED-849C-D9786D7455B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1209600" y="696960"/>
            <a:ext cx="443700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4EB4B-EF96-4301-9114-FC0F810FCA9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1209600" y="696960"/>
            <a:ext cx="443700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6880" y="4361040"/>
            <a:ext cx="548028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0C198-31AF-4769-A1A7-06E0AF26394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"/>
          <p:cNvSpPr/>
          <p:nvPr/>
        </p:nvSpPr>
        <p:spPr>
          <a:xfrm>
            <a:off x="1209600" y="696960"/>
            <a:ext cx="443556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6880" y="4361040"/>
            <a:ext cx="548028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F9E57-EBF9-483A-A2C0-0FF8ED1041B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1209600" y="696960"/>
            <a:ext cx="443088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1520" y="8721720"/>
            <a:ext cx="297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2792-8F91-4D45-90B7-ABA7E5D4BE0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209600" y="696960"/>
            <a:ext cx="443088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440" y="4358880"/>
            <a:ext cx="54831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343-69E6-4E43-BCC7-9AB4A8A6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D20-5B76-4A97-AADC-BEE6C8F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829-3FBE-47AB-AF9A-7B74E022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9AA-43B8-4D92-8446-32A89B38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86B7-949B-4CEE-A79A-DBADD3E3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D14-6F3F-48A2-8482-265F34D5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97C6-1876-45DC-A055-39E077E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C8F-5CF7-4BA6-BABD-2EF489DF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89C6-9F6B-49EC-8D32-2A2A325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7651-E277-4801-84C1-2CF9745B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C52-C60C-40C0-B108-30C8258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2E3-F64C-46AE-A6CA-A11FCDA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444A-6710-4B87-B6D0-E7FADC4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EAF-060E-494B-A0AF-8638A2F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22B-4BE8-49D8-BF01-18E6AF9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220B-CA23-4D43-8D61-405EE70F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5DE-6A89-4496-B180-5704CDC4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8B6E-AAEB-4F83-BB44-2407EDAA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E7EA-B414-488E-8EE3-8E42DC5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8B17-89E6-443F-9D1B-7D4B361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62CA-CBF9-4C27-AE6B-B1BB913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1C54-DF9F-4613-B296-EE2DB13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CA3-4C6E-453B-864D-CF4894B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F5F5-ED0B-4467-A69A-00D9E350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9299-FE23-45C4-8690-F837E7F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70E1-ED82-4A9B-914F-D67B7A02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7023-49EA-40E4-AA57-F5B5A0D4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AC34-8A79-4CAA-B79F-350D56A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BE71-1114-4468-B08B-C0C4760C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6AC3-0503-4528-A298-1ACFF89C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21-CCBF-4978-9860-6458CDAD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16D-7239-47F3-8A7E-0586656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8480" y="303120"/>
            <a:ext cx="764388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E0C-1EEA-49C1-80BC-A0951D9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155-F103-431B-9A83-B5936A7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FE3-CBAC-48D7-B6DE-125F67F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E07-BB3A-4293-B089-C3C0698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3FBC7-B139-4230-83BF-C8A060BEA5B4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57667-16D2-4BB6-B9AB-7610F85E6FB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7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1162F-EB13-4E77-9C21-C103EB52BA3F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45603-B43F-4379-B6C8-0E0BD612A2D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53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EOSDIS2006logo"/>
          <p:cNvPicPr/>
          <p:nvPr/>
        </p:nvPicPr>
        <p:blipFill>
          <a:blip r:embed="rId2"/>
          <a:stretch/>
        </p:blipFill>
        <p:spPr>
          <a:xfrm>
            <a:off x="84240" y="0"/>
            <a:ext cx="13334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8"/>
          <p:cNvGrpSpPr/>
          <p:nvPr/>
        </p:nvGrpSpPr>
        <p:grpSpPr>
          <a:xfrm>
            <a:off x="168120" y="1008000"/>
            <a:ext cx="9828000" cy="85320"/>
            <a:chOff x="168120" y="1008000"/>
            <a:chExt cx="9828000" cy="85320"/>
          </a:xfrm>
        </p:grpSpPr>
        <p:sp>
          <p:nvSpPr>
            <p:cNvPr id="94" name="Line 9"/>
            <p:cNvSpPr/>
            <p:nvPr/>
          </p:nvSpPr>
          <p:spPr>
            <a:xfrm>
              <a:off x="168120" y="1008000"/>
              <a:ext cx="98280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168120" y="1093320"/>
              <a:ext cx="982800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" name="Picture 11" descr="nasa_3D"/>
          <p:cNvPicPr/>
          <p:nvPr/>
        </p:nvPicPr>
        <p:blipFill>
          <a:blip r:embed="rId3"/>
          <a:stretch/>
        </p:blipFill>
        <p:spPr>
          <a:xfrm>
            <a:off x="8904240" y="73080"/>
            <a:ext cx="1176480" cy="934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5B521-3D8E-47F6-A812-ABF2493DF6F7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ac.gsfc.nasa.gov/" TargetMode="External"/><Relationship Id="rId2" Type="http://schemas.openxmlformats.org/officeDocument/2006/relationships/hyperlink" Target="http://gcmd.nasa.gov/" TargetMode="External"/><Relationship Id="rId3" Type="http://schemas.openxmlformats.org/officeDocument/2006/relationships/hyperlink" Target="https://wist.echo.nasa.gov/~wist/api/imswelcome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B7051-0C31-43E5-B5D4-2A65115F38B7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257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Permanent Recor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382760" y="49230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OSDIS Science Operations, ESDIS Project Code 4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oddard Space Flight Center, Greenbelt, MD 207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SIP Federation Meeting, Santa Barbara, 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uly 9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file data struc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2FF5C-D902-4DC7-8115-0636B8598A87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4343400" y="1652760"/>
            <a:ext cx="4191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P Format Header: 32 bit inte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t 0-30: length of rec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t 31: 0: good record, 1 problem in data recor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ero value indicates file ma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consecutive headers with zero indicates end of tape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 rot="5400000">
            <a:off x="1653840" y="3738600"/>
            <a:ext cx="2897280" cy="789120"/>
          </a:xfrm>
          <a:prstGeom prst="roundRect">
            <a:avLst>
              <a:gd name="adj" fmla="val 93"/>
            </a:avLst>
          </a:pr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H="1">
            <a:off x="2663640" y="285444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770200" y="3030480"/>
            <a:ext cx="63324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H="1">
            <a:off x="2666880" y="301320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 rot="5400000">
            <a:off x="1357560" y="2726280"/>
            <a:ext cx="64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646360" y="2859120"/>
            <a:ext cx="757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708280" y="2687760"/>
            <a:ext cx="693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658960" y="323856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712960" y="3583080"/>
            <a:ext cx="689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 Record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665440" y="402912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665440" y="4243320"/>
            <a:ext cx="758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 Record2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651040" y="3867120"/>
            <a:ext cx="795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2665440" y="4875120"/>
            <a:ext cx="774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N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662200" y="50626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89200" y="4519440"/>
            <a:ext cx="714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 rot="5400000">
            <a:off x="2970360" y="4704480"/>
            <a:ext cx="169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1376280" y="3390840"/>
            <a:ext cx="1171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1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1363680" y="3870360"/>
            <a:ext cx="1150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1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344600" y="4044960"/>
            <a:ext cx="1154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2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712880" y="5232240"/>
            <a:ext cx="798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d of fil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2670120" y="3397320"/>
            <a:ext cx="770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446120" y="3252960"/>
            <a:ext cx="10828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 rec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1352520" y="4532400"/>
            <a:ext cx="1154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2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2670120" y="54118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7"/>
          <p:cNvSpPr/>
          <p:nvPr/>
        </p:nvSpPr>
        <p:spPr>
          <a:xfrm>
            <a:off x="1368360" y="5081760"/>
            <a:ext cx="11541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Record N siz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8"/>
          <p:cNvSpPr/>
          <p:nvPr/>
        </p:nvSpPr>
        <p:spPr>
          <a:xfrm>
            <a:off x="2678040" y="5237280"/>
            <a:ext cx="76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P Header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1704960" y="5403960"/>
            <a:ext cx="814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d of file 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0"/>
          <p:cNvSpPr/>
          <p:nvPr/>
        </p:nvSpPr>
        <p:spPr>
          <a:xfrm rot="5400000">
            <a:off x="2988000" y="5821920"/>
            <a:ext cx="141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2666880" y="323856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2666880" y="3390840"/>
            <a:ext cx="789120" cy="180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H="1">
            <a:off x="2663640" y="35434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4"/>
          <p:cNvSpPr/>
          <p:nvPr/>
        </p:nvSpPr>
        <p:spPr>
          <a:xfrm flipH="1">
            <a:off x="2670120" y="386568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5"/>
          <p:cNvSpPr/>
          <p:nvPr/>
        </p:nvSpPr>
        <p:spPr>
          <a:xfrm flipH="1">
            <a:off x="2663640" y="402444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6"/>
          <p:cNvSpPr/>
          <p:nvPr/>
        </p:nvSpPr>
        <p:spPr>
          <a:xfrm flipH="1">
            <a:off x="2662200" y="4183200"/>
            <a:ext cx="78912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7"/>
          <p:cNvSpPr/>
          <p:nvPr/>
        </p:nvSpPr>
        <p:spPr>
          <a:xfrm flipH="1">
            <a:off x="2663640" y="44974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8"/>
          <p:cNvSpPr/>
          <p:nvPr/>
        </p:nvSpPr>
        <p:spPr>
          <a:xfrm flipH="1">
            <a:off x="2663640" y="466416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9"/>
          <p:cNvSpPr/>
          <p:nvPr/>
        </p:nvSpPr>
        <p:spPr>
          <a:xfrm flipH="1">
            <a:off x="2663640" y="5052960"/>
            <a:ext cx="788760" cy="180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0"/>
          <p:cNvSpPr/>
          <p:nvPr/>
        </p:nvSpPr>
        <p:spPr>
          <a:xfrm flipH="1">
            <a:off x="2663640" y="521820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2663640" y="5372280"/>
            <a:ext cx="788760" cy="1440"/>
          </a:xfrm>
          <a:prstGeom prst="line">
            <a:avLst/>
          </a:prstGeom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1774800" y="2700360"/>
            <a:ext cx="646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ile 1 Mark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1603440" y="2847960"/>
            <a:ext cx="8730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bit Doc rec size=&gt;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44"/>
          <p:cNvSpPr/>
          <p:nvPr/>
        </p:nvSpPr>
        <p:spPr>
          <a:xfrm>
            <a:off x="4417920" y="2976120"/>
            <a:ext cx="3733920" cy="829440"/>
          </a:xfrm>
          <a:prstGeom prst="roundRect">
            <a:avLst>
              <a:gd name="adj" fmla="val 7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Orbit Documentation (one per file)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and end Date and time (May 1966- Nov. 196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bit number (93-2200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umber of location anchor point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20840" indent="-21132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size (in words) and number of swaths (424-43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4435560" y="4119480"/>
            <a:ext cx="2438280" cy="76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ata Record documen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and end date and 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tch, yaw, roll err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dir angles for anchor point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4435560" y="495792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4435560" y="5643720"/>
            <a:ext cx="1260360" cy="1440"/>
          </a:xfrm>
          <a:prstGeom prst="line">
            <a:avLst/>
          </a:prstGeom>
          <a:ln w="367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8"/>
          <p:cNvSpPr/>
          <p:nvPr/>
        </p:nvSpPr>
        <p:spPr>
          <a:xfrm>
            <a:off x="7048440" y="4838760"/>
            <a:ext cx="2568600" cy="88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Swath Documen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data start 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umber of samples in swath (424-434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b- satellite Latitude and longitu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chor point latitudes and longitudes (3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87000"/>
              </a:lnSpc>
              <a:tabLst>
                <a:tab algn="l" pos="0"/>
                <a:tab algn="l" pos="10152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trument status fla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9"/>
          <p:cNvSpPr/>
          <p:nvPr/>
        </p:nvSpPr>
        <p:spPr>
          <a:xfrm>
            <a:off x="7032600" y="5878440"/>
            <a:ext cx="2584440" cy="374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24-434 temperature measurement samp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50"/>
          <p:cNvSpPr/>
          <p:nvPr/>
        </p:nvSpPr>
        <p:spPr>
          <a:xfrm flipH="1" flipV="1" rot="10800000">
            <a:off x="4099320" y="1651680"/>
            <a:ext cx="228600" cy="1066680"/>
          </a:xfrm>
          <a:custGeom>
            <a:avLst/>
            <a:gdLst>
              <a:gd name="textAreaLeft" fmla="*/ 145800 w 228600"/>
              <a:gd name="textAreaRight" fmla="*/ 228600 w 228600"/>
              <a:gd name="textAreaTop" fmla="*/ 32040 h 1066680"/>
              <a:gd name="textAreaBottom" fmla="*/ 10346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149"/>
                </a:lnTo>
                <a:cubicBezTo>
                  <a:pt x="10800" y="9187"/>
                  <a:pt x="5400" y="10225"/>
                  <a:pt x="0" y="10225"/>
                </a:cubicBezTo>
                <a:cubicBezTo>
                  <a:pt x="5400" y="10225"/>
                  <a:pt x="10800" y="11263"/>
                  <a:pt x="10800" y="12301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51"/>
          <p:cNvSpPr/>
          <p:nvPr/>
        </p:nvSpPr>
        <p:spPr>
          <a:xfrm flipH="1" flipV="1" rot="10800000">
            <a:off x="4175640" y="2972160"/>
            <a:ext cx="228600" cy="838440"/>
          </a:xfrm>
          <a:custGeom>
            <a:avLst/>
            <a:gdLst>
              <a:gd name="textAreaLeft" fmla="*/ 145800 w 228600"/>
              <a:gd name="textAreaRight" fmla="*/ 228600 w 228600"/>
              <a:gd name="textAreaTop" fmla="*/ 25200 h 838440"/>
              <a:gd name="textAreaBottom" fmla="*/ 8132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149"/>
                </a:lnTo>
                <a:cubicBezTo>
                  <a:pt x="10800" y="9187"/>
                  <a:pt x="5400" y="10225"/>
                  <a:pt x="0" y="10225"/>
                </a:cubicBezTo>
                <a:cubicBezTo>
                  <a:pt x="5400" y="10225"/>
                  <a:pt x="10800" y="11263"/>
                  <a:pt x="10800" y="12301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2"/>
          <p:cNvSpPr/>
          <p:nvPr/>
        </p:nvSpPr>
        <p:spPr>
          <a:xfrm flipH="1" flipV="1" rot="10800000">
            <a:off x="4191480" y="4120200"/>
            <a:ext cx="228600" cy="1904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57240 h 1904760"/>
              <a:gd name="textAreaBottom" fmla="*/ 184752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687"/>
                </a:lnTo>
                <a:cubicBezTo>
                  <a:pt x="10800" y="9725"/>
                  <a:pt x="5400" y="10763"/>
                  <a:pt x="0" y="10763"/>
                </a:cubicBezTo>
                <a:cubicBezTo>
                  <a:pt x="5400" y="10763"/>
                  <a:pt x="10800" y="11801"/>
                  <a:pt x="10800" y="12839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435560" y="526248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4435560" y="5796000"/>
            <a:ext cx="126036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wath # N (5 or 6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55"/>
          <p:cNvSpPr/>
          <p:nvPr/>
        </p:nvSpPr>
        <p:spPr>
          <a:xfrm flipH="1" flipV="1" rot="10800000">
            <a:off x="6782400" y="4894200"/>
            <a:ext cx="228600" cy="1371600"/>
          </a:xfrm>
          <a:custGeom>
            <a:avLst/>
            <a:gdLst>
              <a:gd name="textAreaLeft" fmla="*/ 145800 w 228600"/>
              <a:gd name="textAreaRight" fmla="*/ 228600 w 228600"/>
              <a:gd name="textAreaTop" fmla="*/ 41040 h 1371600"/>
              <a:gd name="textAreaBottom" fmla="*/ 13305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8"/>
                  <a:pt x="10800" y="2076"/>
                </a:cubicBezTo>
                <a:lnTo>
                  <a:pt x="10800" y="8823"/>
                </a:lnTo>
                <a:cubicBezTo>
                  <a:pt x="10800" y="9861"/>
                  <a:pt x="5400" y="10899"/>
                  <a:pt x="0" y="10899"/>
                </a:cubicBezTo>
                <a:cubicBezTo>
                  <a:pt x="5400" y="10899"/>
                  <a:pt x="10800" y="11937"/>
                  <a:pt x="10800" y="12975"/>
                </a:cubicBezTo>
                <a:lnTo>
                  <a:pt x="10800" y="19524"/>
                </a:lnTo>
                <a:cubicBezTo>
                  <a:pt x="10800" y="2056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AutoShape 56"/>
          <p:cNvCxnSpPr>
            <a:stCxn id="222" idx="3"/>
            <a:endCxn id="263" idx="1"/>
          </p:cNvCxnSpPr>
          <p:nvPr/>
        </p:nvCxnSpPr>
        <p:spPr>
          <a:xfrm flipV="1">
            <a:off x="3401640" y="2185920"/>
            <a:ext cx="700920" cy="5814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57"/>
          <p:cNvCxnSpPr>
            <a:stCxn id="218" idx="3"/>
            <a:endCxn id="264" idx="1"/>
          </p:cNvCxnSpPr>
          <p:nvPr/>
        </p:nvCxnSpPr>
        <p:spPr>
          <a:xfrm>
            <a:off x="3403440" y="3087720"/>
            <a:ext cx="775440" cy="303840"/>
          </a:xfrm>
          <a:prstGeom prst="bentConnector3">
            <a:avLst>
              <a:gd name="adj1" fmla="val 49976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58"/>
          <p:cNvCxnSpPr>
            <a:stCxn id="224" idx="3"/>
            <a:endCxn id="265" idx="1"/>
          </p:cNvCxnSpPr>
          <p:nvPr/>
        </p:nvCxnSpPr>
        <p:spPr>
          <a:xfrm>
            <a:off x="3402000" y="3695400"/>
            <a:ext cx="792720" cy="1377000"/>
          </a:xfrm>
          <a:prstGeom prst="bentConnector3">
            <a:avLst>
              <a:gd name="adj1" fmla="val 49977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59"/>
          <p:cNvCxnSpPr>
            <a:stCxn id="259" idx="3"/>
            <a:endCxn id="268" idx="1"/>
          </p:cNvCxnSpPr>
          <p:nvPr/>
        </p:nvCxnSpPr>
        <p:spPr>
          <a:xfrm>
            <a:off x="5695560" y="5071680"/>
            <a:ext cx="1089720" cy="50688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atus of Nimbus II HR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4320" y="1188720"/>
            <a:ext cx="906444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9 boxes containing 1703 tapes were retrieved from F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oxes (14 tapes) were left at FRC and will be retrieved and recovered by JBI in the next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oxes are missing and currently unaccounted for – currently looking to identify boxes with backup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3 tapes were readable out of 1703 ta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contained bad Orbit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ontained bad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673 readable ta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2 files had bad records out of 2278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 files had records with bad parity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tal of 6.7 GB were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624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2 HRIR tap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F4537-8DC4-4902-B86C-976EA142ADE5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246320" y="1785960"/>
            <a:ext cx="807552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6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gest and Arch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t GES D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3840" y="1265040"/>
            <a:ext cx="9069120" cy="547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requirements for new missions/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rage ( 7GB), processing power, offsite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Services (ft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earch capabilities (ECHO-WI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file naming convention, developed utility to extract and create metadata files, and rename data files (File specs, temporal and spatial fields, orbit..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d Directory Interchange Format (DIF) document used by Global Change Master Directory and README document describing data structure and format, Web page at GES DISC public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ested and tested new products and metadata, published metadata to ECHO enabling access by W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mbus II HRIR data is now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aac.gsfc.nasa.gov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cmd.nasa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7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ist.echo.nasa.gov/~wist/api/imswelcom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30456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3C815-6C3A-435C-9DEF-ED05374D6A0A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valent Blackbody Temperatur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503F5-C792-42AE-8123-DE3F48556274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09712-F4F1-4F98-8903-4B0AD2F04AE0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73280" y="1189080"/>
            <a:ext cx="2004840" cy="5837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906640" y="1189080"/>
            <a:ext cx="4267440" cy="3612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5294160" y="4998960"/>
            <a:ext cx="4786560" cy="2384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4"/>
          <a:stretch/>
        </p:blipFill>
        <p:spPr>
          <a:xfrm>
            <a:off x="2982960" y="4923000"/>
            <a:ext cx="2365200" cy="2414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5"/>
          <a:stretch/>
        </p:blipFill>
        <p:spPr>
          <a:xfrm>
            <a:off x="7174080" y="1417680"/>
            <a:ext cx="30603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mbus II HRIR Confirms Airborne Lake Temperatur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E72A7-914E-426A-A62C-8C893D75D37E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C7A7E-54F4-46C9-8B1A-32F7179C0C81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992240" y="1122480"/>
            <a:ext cx="617544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Geo-location Iss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54312-1475-483B-8A2C-29B13049B3BA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2BB3E-38FA-4475-A718-5884110E5BFA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20640" y="2182680"/>
            <a:ext cx="3522600" cy="5214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506840" y="5380200"/>
            <a:ext cx="2408400" cy="20304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4506840" y="1417680"/>
            <a:ext cx="5334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Nimbus II era, geo-location was accomplished by creating lat-lon grids that would overlay the swath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user guide documentation does not give the algorithms to compute the latitudes and longitudes of temperature samples in the sw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1763640" y="1189080"/>
            <a:ext cx="249084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pping to Equal Area Gr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AFCA4-EBF9-4396-9ECD-35E7431EA00F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D05B3-432A-430B-896E-1E0A4CD66795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90741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mbus II HRIR Shows the Gulf Stream Location for Hurricane Alma Inten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A015C-68E5-4F70-AAFD-77A1FF2AE26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DC9D8-3DE2-4464-9DDC-3AB3EE321445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2040" y="1569960"/>
            <a:ext cx="94377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2040" y="301752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5060-EAF1-466F-9550-64DB02409F9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ED79D-C78C-49BE-BACB-518492A09767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0280" y="351000"/>
            <a:ext cx="906948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231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IMBUS II Instruments Launched May 15,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nstruments collected Earth observations starting in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Vidicon camera (AVCS) to provides television pictures of clouds in the earth's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solution Infrared Radiometer (HRIR) to map the Earth's cloud cover at night and to measure the temperatures of cloud tops and terr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880" indent="-21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resolution infrared radiometer (MRIR) to measure electromagnetic radiation emitted and reflected from the earth and its atmosphere in five wavelength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A32A-8EFF-417E-863B-7CF7D69F300D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4A0FC-B637-401E-A264-414541CB695E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5C5B-A044-44B3-AA9D-DC3724271A96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C4FAC-B40E-4630-AF42-4DCC3B38F59B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I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465120" y="1695600"/>
            <a:ext cx="9199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imbus I High Resolution Infrared Radiometer (HRIR) was design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 two major functions: First, to map the Eath's cloud cover at 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lement the television coverage during the daytime portion of the orbi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econd, to measure the ... temperature of cloud tops and terrain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s taken during the daytime do not reveal true surface temper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 radiometer operates in the 3.5 to 4.1 micron region and ref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radiation is added to emited surface radiation. However, reflected sun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spectral region does not saturate the radiometer output and u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can be ma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ta are stored in a binary TAP format (proprietary Tape emulated forma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RIR instrument was launched on the Nimbus-2 satellite and was opera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y 16, 1966 through November 13, 19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Resolution Range: 10 km - &lt; 50 km or approximately .09 degree - &lt; .5 deg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9FEC5-D415-4B61-9AF9-F1CAFCCE071B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52DDD-CD13-4A5B-869C-CEF01E53B6CC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I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19040" y="2252520"/>
            <a:ext cx="1144260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et C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Creator: Goddard Space Flight Center (GSF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Title: Nimbus-2 Level 2 Earth's cloudcover at night, and Temperature of cloud tops and terrain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Release Date: April 10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Release Place: Greenbelt, MD,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set Publisher: Goddard Earth Science Data and Information Services(GES DIS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: 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resentation Form: Digital Scienc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ine Resource: http://mirador.gsfc.nasa.gov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 Media: Online (HTTP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 Format: 36 bit IBM binary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s: No Fe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7AC20-98E2-4BE8-A36E-3F13FE0490DF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DDF28-83AA-4F01-A5F7-E0C7E07276D0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XML metad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ollection (shortname, longname, version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Granule (granuleId, format, total size, insertion time, time of coverag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Files (name, checksum, siz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patial attributes(list of latitudes and longitudes of gpolygons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roduct specifics (orbit, average elevation, station code, orbit time coverage)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7FAD7-E23C-4DE3-967A-01D7A2139F26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46CEF-029A-4DFB-9DB7-1EE85AD6F862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6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orbit 119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660680" y="2057400"/>
            <a:ext cx="61560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2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E84BA-BB7E-4A56-8163-4838B6F62598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3204D-4F79-47C9-826A-42D046FC8177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63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polygons for orbit 1190 at 10*10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994040" y="2104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9066240" cy="776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mbus 2 HRIR file naming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ED598-0888-42A8-908C-C7FB173BDC5E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569880" y="2706840"/>
            <a:ext cx="857268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mbus2-HRIR-&lt;YYYYMMDD&gt;_&lt;hh-mm-ss&gt;_&lt;orbit&gt;_&lt;version&gt;.TAP 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YYYMMDD is the starting date when the data was collected from the satellit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YYY: starting 4 digit calendar year (e.g. 1966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: starting 2 digit month (e.g. 02 for Februar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D: starting 2 digit day of the year (e.g. 04 for day four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h-mm-ss is the starting time when the data was collected from the satellit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h     :  starting 2 digit hour (0-23) (e.g. 02 for hour 2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: starting 2 digit minute (0-59) (e.g., 09 for 9 minute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: starting 2 digit seconds (0-59) , (e.g. 11 for 11 second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bit is the orbit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 is a 3 digit number (e.g. 00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Nimbus2-HRIR-19660805_12-05-31_1245.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76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Backup process diagra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5606C-929A-4FB5-8727-19F08BC2C7A2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"/>
          <p:cNvSpPr/>
          <p:nvPr/>
        </p:nvSpPr>
        <p:spPr>
          <a:xfrm>
            <a:off x="309600" y="1660680"/>
            <a:ext cx="4740120" cy="4141800"/>
          </a:xfrm>
          <a:prstGeom prst="roundRect">
            <a:avLst>
              <a:gd name="adj" fmla="val 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3809880" y="2746440"/>
            <a:ext cx="928800" cy="928800"/>
            <a:chOff x="3809880" y="2746440"/>
            <a:chExt cx="928800" cy="928800"/>
          </a:xfrm>
        </p:grpSpPr>
        <p:sp>
          <p:nvSpPr>
            <p:cNvPr id="339" name="AutoShape 4"/>
            <p:cNvSpPr/>
            <p:nvPr/>
          </p:nvSpPr>
          <p:spPr>
            <a:xfrm>
              <a:off x="3809880" y="2746440"/>
              <a:ext cx="928800" cy="92880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3898440" y="2945880"/>
              <a:ext cx="76536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L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841320" y="4230720"/>
            <a:ext cx="817560" cy="995400"/>
            <a:chOff x="841320" y="4230720"/>
            <a:chExt cx="817560" cy="995400"/>
          </a:xfrm>
        </p:grpSpPr>
        <p:sp>
          <p:nvSpPr>
            <p:cNvPr id="342" name="AutoShape 7"/>
            <p:cNvSpPr/>
            <p:nvPr/>
          </p:nvSpPr>
          <p:spPr>
            <a:xfrm>
              <a:off x="841320" y="4230720"/>
              <a:ext cx="817560" cy="995400"/>
            </a:xfrm>
            <a:prstGeom prst="flowChartMagneticDisk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63280" y="4539600"/>
              <a:ext cx="7761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vel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303640" y="2746440"/>
            <a:ext cx="928440" cy="928800"/>
            <a:chOff x="2303640" y="2746440"/>
            <a:chExt cx="928440" cy="928800"/>
          </a:xfrm>
        </p:grpSpPr>
        <p:sp>
          <p:nvSpPr>
            <p:cNvPr id="345" name="AutoShape 10"/>
            <p:cNvSpPr/>
            <p:nvPr/>
          </p:nvSpPr>
          <p:spPr>
            <a:xfrm>
              <a:off x="2303640" y="2746440"/>
              <a:ext cx="928440" cy="92880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2325240" y="2923920"/>
              <a:ext cx="8157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12"/>
          <p:cNvGrpSpPr/>
          <p:nvPr/>
        </p:nvGrpSpPr>
        <p:grpSpPr>
          <a:xfrm>
            <a:off x="731880" y="2679840"/>
            <a:ext cx="971640" cy="928440"/>
            <a:chOff x="731880" y="2679840"/>
            <a:chExt cx="971640" cy="928440"/>
          </a:xfrm>
        </p:grpSpPr>
        <p:sp>
          <p:nvSpPr>
            <p:cNvPr id="348" name="AutoShape 13"/>
            <p:cNvSpPr/>
            <p:nvPr/>
          </p:nvSpPr>
          <p:spPr>
            <a:xfrm>
              <a:off x="752040" y="2679840"/>
              <a:ext cx="928800" cy="928440"/>
            </a:xfrm>
            <a:prstGeom prst="flowChart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4"/>
            <p:cNvSpPr/>
            <p:nvPr/>
          </p:nvSpPr>
          <p:spPr>
            <a:xfrm>
              <a:off x="731880" y="2857320"/>
              <a:ext cx="971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15"/>
          <p:cNvGrpSpPr/>
          <p:nvPr/>
        </p:nvGrpSpPr>
        <p:grpSpPr>
          <a:xfrm>
            <a:off x="2370240" y="4230720"/>
            <a:ext cx="817560" cy="995400"/>
            <a:chOff x="2370240" y="4230720"/>
            <a:chExt cx="817560" cy="995400"/>
          </a:xfrm>
        </p:grpSpPr>
        <p:sp>
          <p:nvSpPr>
            <p:cNvPr id="351" name="AutoShape 16"/>
            <p:cNvSpPr/>
            <p:nvPr/>
          </p:nvSpPr>
          <p:spPr>
            <a:xfrm>
              <a:off x="2370240" y="4230720"/>
              <a:ext cx="817560" cy="995400"/>
            </a:xfrm>
            <a:prstGeom prst="flowChartMagneticDisk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7"/>
            <p:cNvSpPr/>
            <p:nvPr/>
          </p:nvSpPr>
          <p:spPr>
            <a:xfrm>
              <a:off x="2391840" y="4539600"/>
              <a:ext cx="776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vel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3765600" y="4230720"/>
            <a:ext cx="1173240" cy="817560"/>
            <a:chOff x="3765600" y="4230720"/>
            <a:chExt cx="1173240" cy="817560"/>
          </a:xfrm>
        </p:grpSpPr>
        <p:sp>
          <p:nvSpPr>
            <p:cNvPr id="354" name="AutoShape 19"/>
            <p:cNvSpPr/>
            <p:nvPr/>
          </p:nvSpPr>
          <p:spPr>
            <a:xfrm>
              <a:off x="3765600" y="4230720"/>
              <a:ext cx="1173240" cy="817560"/>
            </a:xfrm>
            <a:prstGeom prst="flowChartMagneticTap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3963600" y="4363560"/>
              <a:ext cx="76572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L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21"/>
          <p:cNvSpPr/>
          <p:nvPr/>
        </p:nvSpPr>
        <p:spPr>
          <a:xfrm>
            <a:off x="2016000" y="1882800"/>
            <a:ext cx="141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ing 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>
            <a:off x="7199280" y="1727280"/>
            <a:ext cx="2259000" cy="4052880"/>
          </a:xfrm>
          <a:custGeom>
            <a:avLst/>
            <a:gdLst>
              <a:gd name="textAreaLeft" fmla="*/ 360 w 2259000"/>
              <a:gd name="textAreaRight" fmla="*/ 2258640 w 2259000"/>
              <a:gd name="textAreaTop" fmla="*/ 360 h 4052880"/>
              <a:gd name="textAreaBottom" fmla="*/ 4052520 h 4052880"/>
            </a:gdLst>
            <a:ahLst/>
            <a:rect l="textAreaLeft" t="textAreaTop" r="textAreaRight" b="textAreaBottom"/>
            <a:pathLst>
              <a:path w="21600" h="38750">
                <a:moveTo>
                  <a:pt x="15" y="0"/>
                </a:moveTo>
                <a:arcTo wR="15" hR="15" stAng="16200000" swAng="-5400000"/>
                <a:lnTo>
                  <a:pt x="0" y="38735"/>
                </a:lnTo>
                <a:arcTo wR="15" hR="15" stAng="10800000" swAng="-5400000"/>
                <a:lnTo>
                  <a:pt x="21585" y="38750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7575480" y="1949400"/>
            <a:ext cx="141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ing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24"/>
          <p:cNvSpPr/>
          <p:nvPr/>
        </p:nvSpPr>
        <p:spPr>
          <a:xfrm>
            <a:off x="5516640" y="3278160"/>
            <a:ext cx="1328760" cy="331920"/>
          </a:xfrm>
          <a:prstGeom prst="rightArrow">
            <a:avLst>
              <a:gd name="adj1" fmla="val 50000"/>
              <a:gd name="adj2" fmla="val 10008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5361120" y="2946240"/>
            <a:ext cx="1363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t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5494320" y="4430880"/>
            <a:ext cx="1262160" cy="331560"/>
          </a:xfrm>
          <a:prstGeom prst="leftArrow">
            <a:avLst>
              <a:gd name="adj1" fmla="val 50000"/>
              <a:gd name="adj2" fmla="val 9516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1239840" y="358776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>
            <a:off x="2724120" y="3676680"/>
            <a:ext cx="14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9"/>
          <p:cNvSpPr/>
          <p:nvPr/>
        </p:nvSpPr>
        <p:spPr>
          <a:xfrm>
            <a:off x="4280040" y="3651120"/>
            <a:ext cx="14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30"/>
          <p:cNvSpPr/>
          <p:nvPr/>
        </p:nvSpPr>
        <p:spPr>
          <a:xfrm flipV="1">
            <a:off x="552600" y="2433240"/>
            <a:ext cx="42321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31"/>
          <p:cNvSpPr/>
          <p:nvPr/>
        </p:nvSpPr>
        <p:spPr>
          <a:xfrm flipV="1">
            <a:off x="1174680" y="247320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32"/>
          <p:cNvSpPr/>
          <p:nvPr/>
        </p:nvSpPr>
        <p:spPr>
          <a:xfrm flipV="1">
            <a:off x="2768760" y="2453760"/>
            <a:ext cx="14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 flipH="1" flipV="1">
            <a:off x="4205160" y="2455920"/>
            <a:ext cx="792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5405400" y="3898800"/>
            <a:ext cx="1452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ta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month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5"/>
          <p:cNvSpPr/>
          <p:nvPr/>
        </p:nvSpPr>
        <p:spPr>
          <a:xfrm>
            <a:off x="7775640" y="2703600"/>
            <a:ext cx="1085760" cy="1306440"/>
          </a:xfrm>
          <a:custGeom>
            <a:avLst/>
            <a:gdLst>
              <a:gd name="textAreaLeft" fmla="*/ 360 w 1085760"/>
              <a:gd name="textAreaRight" fmla="*/ 1085400 w 1085760"/>
              <a:gd name="textAreaTop" fmla="*/ 360 h 1306440"/>
              <a:gd name="textAreaBottom" fmla="*/ 1306080 h 1306440"/>
            </a:gdLst>
            <a:ahLst/>
            <a:rect l="textAreaLeft" t="textAreaTop" r="textAreaRight" b="textAreaBottom"/>
            <a:pathLst>
              <a:path w="21600" h="25989">
                <a:moveTo>
                  <a:pt x="31" y="0"/>
                </a:moveTo>
                <a:arcTo wR="31" hR="31" stAng="16200000" swAng="-5400000"/>
                <a:lnTo>
                  <a:pt x="0" y="25958"/>
                </a:lnTo>
                <a:arcTo wR="31" hR="31" stAng="10800000" swAng="-5400000"/>
                <a:lnTo>
                  <a:pt x="21569" y="25989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885080" y="2901960"/>
            <a:ext cx="766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ata Backup &amp; Recovery proc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7760" y="1855800"/>
            <a:ext cx="9069120" cy="48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0840" indent="-316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mbus II HRIR data is stored on primary server into RAID (level 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on secondary server into RAID (level 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aily local backup of new or updated products is made on SDLT tape (stored in B3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remote backup of a Volume on SDLT tape (stored in building 28) when a Volume is filled (100 GB) or a Volume is closed (i.e. in the case of Nimbus II HRIR that holds only 6.7 G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remote backup tapes are tested ever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lost or damaged is recovered from the local backup or remote backup t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ckup of Nimbus II HRIR data is part of the standard GES DISC opera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854F5-C38E-4A5E-8541-E7E415E323BE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ocuments Backup &amp; Recove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BE332-DF28-47D1-8D9F-8A2758B57E4B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mbus II HRIR documents are stored into RAID (level 5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ily backup on DLT tape and disk of new documents (tapes stored in B32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564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ekly backup on DLT tape of documents (tapes stored in B28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HRIR instru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265040"/>
            <a:ext cx="9069480" cy="585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canning radiometer, using a 3.5 - 4.1 micron filter and Lead Selenide (PbSe) photoconductive detector cell radiatively cooled to -75 deg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measurements of blackbody temperatures between 210K - 33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equivalent ~1 degree C for a 250K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ynchronous, 108 minute nod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coincident with spacecraft velocity vector (no yaw err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 mirror inclined 45 degrees to axis of rotation (scans perpendicular to flight p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 rate operation of 44.7 revolutions per minute provides a scan line separation of 8.3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ous field-of-view of 8.7 milliradians provides ground resolution of 8 km at an altitude of 111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was excellent until orbit 2455 when the tape recorder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period of data coverag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 May 1966 (Julian day 136) through 13 Nov 1966 (Julian day 31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data collected during nighttime part of orb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nt 200-Hz interference – observed pre-launch – associated with AC noise on bus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calibration in good agreement with pre-launch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RIR detector, after stabilizing at -7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post launch, exhibits a warming trend and became nominal at -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ating detector cell decreased the signal to noise ratio from 20 to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79A77-DCD5-483A-8F9D-1F088F361EAD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9F3A4-357B-4796-83D6-C94ED4F77499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1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Inventory &amp; D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3280" y="1188720"/>
            <a:ext cx="6137280" cy="342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19040" indent="-31428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imbus II HRIR data was sent to the National Archives and Records Administration Washington National Records Center in the late 1960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mbus II HRIR was stored on 7-track reel-to-reel computer tapes (primary and second cop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n boxes on shelves at a secure and environmentally controlled fac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F55A7-0ED2-4B60-8A17-DAE0ACC7AD6D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C:\Documents and Settings\jfmoses\Desktop\100_3858.JPG"/>
          <p:cNvPicPr/>
          <p:nvPr/>
        </p:nvPicPr>
        <p:blipFill>
          <a:blip r:embed="rId1"/>
          <a:stretch/>
        </p:blipFill>
        <p:spPr>
          <a:xfrm>
            <a:off x="6488280" y="1722600"/>
            <a:ext cx="3344760" cy="2514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544680" y="4694400"/>
            <a:ext cx="9261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19040" indent="-31428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inventory of the Nimbus II HRIR data collection was maintained at NASA Space Science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lectronic list of Nimbus II HRIR tapes and the associated Federal Record Center accession and box numb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82600">
              <a:lnSpc>
                <a:spcPct val="8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list shows 7 tape numbers per bo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AB9D9-C368-4521-8FA6-1FADC4907C88}" type="datetime">
              <a:rPr b="0" lang="en-GB" sz="15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B6099-9AB0-485A-A639-88860BB2A37A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94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Recovery Project Go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Recover the Nimbus II HRIR data collection from the 7-track tapes stored at the Federal Records Cen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rchive Nimbus II HRIR at the Goddard Data Information Services Center (DISC) and make the data and documentation available to users via the inter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87000"/>
              </a:lnSpc>
              <a:spcBef>
                <a:spcPts val="7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92973-D290-47A5-B367-7C43385AC5E2}" type="datetime">
              <a:rPr b="0" lang="en-GB" sz="15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A5D16-311B-418E-AC13-897AE735F636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6768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Recovery Methodolog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265400"/>
            <a:ext cx="9261360" cy="586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41200" indent="-217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very process uses specially developed tape drives, bit detection and processing techniques to read the 800 bpi, 7-track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ordynuik Inc, Niagara Falls, Ontario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1-2% will be unrecoverable, some tapes are missing, some have missing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s involve sending the primary tape collection for recovery, checking the number of tapes and files processed against NSSDC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ing missing or unreadable tapes, repeating the process with the backup tape, destroying the tapes once off-site backups are sec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code to unpack HRIR data, analyze and validate against the user guide and results found in research papers and 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gesting HRIR into DISC S4PA, ensuring the backup is secure, preparing EOSDIS-like metadata and documentation and making data available via GES DISC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200" indent="-21744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dating the data with the current scienc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imbus II HRIR Documen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2920" y="1417320"/>
            <a:ext cx="9063000" cy="524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copy from NASA Space Science Dat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onic copy from on-line access to NASA Technical Repor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Documentation and Companion Technic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mbus Project 1966: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imbus II User’s Gu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GSFC, Greenbelt, MD., 229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mbus Project 1966: Nimbus II Data Catalog, GSFC, Greenbelt, MD., Vol. 2, 298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Naney, J.J, Palmer, General Electric Co., and R. Shapiro, GSFC, 1969: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imbus II Flight Evaluation and Engineering Report (Launch through orbit 5275), NASA Technical Note D-4881,199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iamson, E. J.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1969: The accuracy of The High Resolution Infrared Radiometer on Nimbus II. GSFC, Greenbelt, MD, NASA TN-D-5551, 14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70CBD-2EB0-45E8-B577-FBBB8D6082E1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73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mbus II HRIR Data Recover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99C60-F8F1-4AC5-8BEA-353B165A7192}" type="slidenum"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190440" y="4816440"/>
            <a:ext cx="9715680" cy="2530440"/>
          </a:xfrm>
          <a:prstGeom prst="roundRect">
            <a:avLst>
              <a:gd name="adj" fmla="val 60"/>
            </a:avLst>
          </a:prstGeom>
          <a:noFill/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217440" y="1387440"/>
            <a:ext cx="9715680" cy="2774880"/>
          </a:xfrm>
          <a:prstGeom prst="roundRect">
            <a:avLst>
              <a:gd name="adj" fmla="val 56"/>
            </a:avLst>
          </a:prstGeom>
          <a:noFill/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423720" y="2108160"/>
            <a:ext cx="1776600" cy="1332000"/>
            <a:chOff x="423720" y="2108160"/>
            <a:chExt cx="1776600" cy="1332000"/>
          </a:xfrm>
        </p:grpSpPr>
        <p:sp>
          <p:nvSpPr>
            <p:cNvPr id="180" name="AutoShape 5"/>
            <p:cNvSpPr/>
            <p:nvPr/>
          </p:nvSpPr>
          <p:spPr>
            <a:xfrm>
              <a:off x="423720" y="2108160"/>
              <a:ext cx="177660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600" y="2379240"/>
              <a:ext cx="16275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requ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quest N2 box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5041800" y="2090880"/>
            <a:ext cx="1830600" cy="1331640"/>
            <a:chOff x="5041800" y="2090880"/>
            <a:chExt cx="1830600" cy="1331640"/>
          </a:xfrm>
        </p:grpSpPr>
        <p:sp>
          <p:nvSpPr>
            <p:cNvPr id="183" name="AutoShape 8"/>
            <p:cNvSpPr/>
            <p:nvPr/>
          </p:nvSpPr>
          <p:spPr>
            <a:xfrm>
              <a:off x="5041800" y="2090880"/>
              <a:ext cx="1830600" cy="133164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5098680" y="2359800"/>
              <a:ext cx="1582920" cy="6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JBI resto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store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nd N2 TAP files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2620800" y="2104920"/>
            <a:ext cx="2094120" cy="1332000"/>
            <a:chOff x="2620800" y="2104920"/>
            <a:chExt cx="2094120" cy="1332000"/>
          </a:xfrm>
        </p:grpSpPr>
        <p:sp>
          <p:nvSpPr>
            <p:cNvPr id="186" name="AutoShape 11"/>
            <p:cNvSpPr/>
            <p:nvPr/>
          </p:nvSpPr>
          <p:spPr>
            <a:xfrm>
              <a:off x="2620800" y="2104920"/>
              <a:ext cx="209412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2647440" y="2376000"/>
              <a:ext cx="20102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RC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trieve N2 box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nd  N2 boxes to JB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8" name="AutoShape 13"/>
          <p:cNvCxnSpPr/>
          <p:nvPr/>
        </p:nvCxnSpPr>
        <p:spPr>
          <a:xfrm flipV="1">
            <a:off x="2201760" y="2770920"/>
            <a:ext cx="419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14"/>
          <p:cNvCxnSpPr/>
          <p:nvPr/>
        </p:nvCxnSpPr>
        <p:spPr>
          <a:xfrm flipV="1">
            <a:off x="4716360" y="2756880"/>
            <a:ext cx="32616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0" name="Group 15"/>
          <p:cNvGrpSpPr/>
          <p:nvPr/>
        </p:nvGrpSpPr>
        <p:grpSpPr>
          <a:xfrm>
            <a:off x="7318440" y="2044800"/>
            <a:ext cx="2322360" cy="1433520"/>
            <a:chOff x="7318440" y="2044800"/>
            <a:chExt cx="2322360" cy="1433520"/>
          </a:xfrm>
        </p:grpSpPr>
        <p:sp>
          <p:nvSpPr>
            <p:cNvPr id="191" name="AutoShape 16"/>
            <p:cNvSpPr/>
            <p:nvPr/>
          </p:nvSpPr>
          <p:spPr>
            <a:xfrm>
              <a:off x="7318440" y="2044800"/>
              <a:ext cx="2322360" cy="14335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7356240" y="2098440"/>
              <a:ext cx="219852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Validation &amp; Q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ssess completen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valuate data qual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tract / store each TAP f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name TAP fi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/ Select duplic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ocument process / st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 Nimbus II do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5811840" y="5762520"/>
            <a:ext cx="2322360" cy="1417680"/>
            <a:chOff x="5811840" y="5762520"/>
            <a:chExt cx="2322360" cy="1417680"/>
          </a:xfrm>
        </p:grpSpPr>
        <p:sp>
          <p:nvSpPr>
            <p:cNvPr id="194" name="AutoShape 19"/>
            <p:cNvSpPr/>
            <p:nvPr/>
          </p:nvSpPr>
          <p:spPr>
            <a:xfrm>
              <a:off x="5811840" y="5762520"/>
              <a:ext cx="2322360" cy="141768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5851080" y="5814720"/>
              <a:ext cx="219852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Ingest &amp; Arch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dentify 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DIF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READ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velop DISC web p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gest / archive  into S4P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ublish to ECH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st dev /TS1/ o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96" name="AutoShape 21"/>
          <p:cNvCxnSpPr/>
          <p:nvPr/>
        </p:nvCxnSpPr>
        <p:spPr>
          <a:xfrm>
            <a:off x="6873480" y="2757240"/>
            <a:ext cx="44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Text Box 22"/>
          <p:cNvSpPr/>
          <p:nvPr/>
        </p:nvSpPr>
        <p:spPr>
          <a:xfrm>
            <a:off x="353880" y="1604880"/>
            <a:ext cx="227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ata Resto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326880" y="4844880"/>
            <a:ext cx="4078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ata Ingest / archive / servi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8572680" y="3510000"/>
            <a:ext cx="2664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 flipH="1" flipV="1">
            <a:off x="8083440" y="6444720"/>
            <a:ext cx="549360" cy="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26"/>
          <p:cNvGrpSpPr/>
          <p:nvPr/>
        </p:nvGrpSpPr>
        <p:grpSpPr>
          <a:xfrm>
            <a:off x="2781360" y="5486400"/>
            <a:ext cx="2595600" cy="1738440"/>
            <a:chOff x="2781360" y="5486400"/>
            <a:chExt cx="2595600" cy="1738440"/>
          </a:xfrm>
        </p:grpSpPr>
        <p:sp>
          <p:nvSpPr>
            <p:cNvPr id="202" name="AutoShape 27"/>
            <p:cNvSpPr/>
            <p:nvPr/>
          </p:nvSpPr>
          <p:spPr>
            <a:xfrm>
              <a:off x="2781360" y="5486400"/>
              <a:ext cx="2595600" cy="173844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8"/>
            <p:cNvSpPr/>
            <p:nvPr/>
          </p:nvSpPr>
          <p:spPr>
            <a:xfrm>
              <a:off x="2825280" y="5551200"/>
              <a:ext cx="2456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backup &amp; recove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ore data into RAID (level 5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nerate daily backup (new or updated products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ull backup of filled/closed volumes (100 GB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ove tapes to remote location  (weekly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ad entire collection of remote tapes (6 months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store lost / damaged data from backup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Line 29"/>
          <p:cNvSpPr/>
          <p:nvPr/>
        </p:nvSpPr>
        <p:spPr>
          <a:xfrm flipH="1" flipV="1">
            <a:off x="5369040" y="6521400"/>
            <a:ext cx="43488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30"/>
          <p:cNvGrpSpPr/>
          <p:nvPr/>
        </p:nvGrpSpPr>
        <p:grpSpPr>
          <a:xfrm>
            <a:off x="500040" y="5575320"/>
            <a:ext cx="1908360" cy="1332000"/>
            <a:chOff x="500040" y="5575320"/>
            <a:chExt cx="1908360" cy="1332000"/>
          </a:xfrm>
        </p:grpSpPr>
        <p:sp>
          <p:nvSpPr>
            <p:cNvPr id="206" name="AutoShape 31"/>
            <p:cNvSpPr/>
            <p:nvPr/>
          </p:nvSpPr>
          <p:spPr>
            <a:xfrm>
              <a:off x="500040" y="5575320"/>
              <a:ext cx="1908360" cy="13320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32"/>
            <p:cNvSpPr/>
            <p:nvPr/>
          </p:nvSpPr>
          <p:spPr>
            <a:xfrm>
              <a:off x="561600" y="5846400"/>
              <a:ext cx="17481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ASA requ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BI destroys primary N2 tap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6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2 backup tapes are destroy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Line 33"/>
          <p:cNvSpPr/>
          <p:nvPr/>
        </p:nvSpPr>
        <p:spPr>
          <a:xfrm flipH="1" flipV="1">
            <a:off x="2368080" y="6340320"/>
            <a:ext cx="4352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8480" y="303120"/>
            <a:ext cx="76438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RIR datase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3280" y="1189080"/>
            <a:ext cx="9074160" cy="55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mbus HRIR data storage was based on a 36-bit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word = 36 bits;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most cases the last bit is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apes are stored in 8 bi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ignificant bit (7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when a byte could not be restore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when a byte was successfully restore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6 is the parity bit read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0-5 are data bits read from tap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records listing the Data record lengths are interleaved with Data reco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 of 36 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36 bits) / (2**(35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 can be split into 2 half words ( 18 bits each).  WordD ( bits 1-18), wordA (bits 19-36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D of 18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18 bits) / (2**(17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ordA of 18bits with a scaling factor of s is converted in real by using the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= (integer value of 18 bits) / (2**(35-s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50328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498A2-2B46-4037-B096-70DC114C73E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9BD6A-FDC2-4B7E-A39E-C974A4357ACB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fmoses</cp:lastModifiedBy>
  <dcterms:modified xsi:type="dcterms:W3CDTF">2009-07-09T15:01:40Z</dcterms:modified>
  <cp:revision>67</cp:revision>
  <dc:subject/>
  <dc:title>Slide 1</dc:title>
</cp:coreProperties>
</file>